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2F15-9FE0-4649-9CC5-AC9FE2F20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304A-61EF-4F8A-A8F1-43311BD4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1611-DD21-4AD3-84B2-14CF65C18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43BC-4389-4659-B151-78C45849A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C2B4-E6B5-424E-A1CA-03F5D6AB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B1B1-40D8-4EFA-90CC-B161F14C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FBE1-C652-4070-9B49-150E3FB2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52E2-DAA1-4BAB-BF58-5B1A1E29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4A73-4593-4933-94D2-69699426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703B-3937-4056-8072-40AFE2B6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0485-02FC-4A27-9A31-EEA255BE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81FA-4F27-4FAD-AE80-81CAC521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F36C-81F3-4C42-A6D1-CECA962495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3240" y="2492280"/>
            <a:ext cx="777240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Д У ФАРМАКОЕПИДЕМИОЛОГИЈУ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нтегрисане акдемске студије фарм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1 Увод у фармацеутску пракс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шк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</a:t>
            </a:r>
            <a:r>
              <a:rPr b="0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39280" y="1600200"/>
            <a:ext cx="748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случаја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</a:t>
            </a:r>
            <a:r>
              <a:rPr b="0" i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e report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у којима се приказују појединачни случајеви пацијената са ретким болестима или код којих се након примене лека испољило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 нежељено дејство или неспецифичан клинички налаз који може бити значајан стручној јав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 - постављање хипотеза које се у будућим, опсежнијим истраживањима мора тестира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шкe студ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ије случајева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. </a:t>
            </a:r>
            <a:r>
              <a:rPr b="0" i="1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series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вим студијама 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 пацијената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ожи леку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као исход се прати појава жељеног терапијског исхода или 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е нежељене реакциј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м студијама се може пратити група пацијената са већ испољеном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медицинском смислу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начајном појавом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у циљу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рђивања 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ихов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тходн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ложеност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ом фактору или леку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е трендова 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су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шке студије </a:t>
            </a: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јима се квантификује повезаност између тренда појаве одређеног медицинског стања у популацији и тренда заступљености одређеног фактора којем је популација била изложе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шкe студ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пресека (eng. cross-sectional stud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верзалне“ студ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раживачи у једном одређеном временском интервалу одређују изложеност фактору од интереса као и присуство клинички значајног стања у датој популац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абир популације, евалуација присуства фактора ризика и болести од интереса и анализа добијених подата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шкe студије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сервационо-анлитичког дизај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раживачи процењују постојање статистичке повезаности између евалуираних фактора ризика и појаве болести или исхода од интере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у врсту дизајна показују кохортне студиј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g. cohort study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и студије случај-контрол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(eng. case-control stud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шкe студ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41300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хорт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група људи са заједничким искуств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вом типу студиј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евалуира повезаност између фактора ризика и здравствених исхода од интереса што омогућава сагледавање етиологије испитиване боле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 истраживања: Утврђивање учесталости обољења у испитиваним популацијама, пропорције оболелих међу изложеним и нелизоженим пацијенти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нгитудиналне студије;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пективне/ретроспектив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е у IV фази клиничких истраживањ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4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sr-R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ОЖЕНОСТ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sr-R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Down Arrow 4"/>
          <p:cNvSpPr/>
          <p:nvPr/>
        </p:nvSpPr>
        <p:spPr>
          <a:xfrm>
            <a:off x="6732720" y="2349360"/>
            <a:ext cx="360360" cy="237492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хортне студ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341000"/>
            <a:ext cx="403848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нтификација изложе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оспективним студијама лако се доказује временска веза између изложености леку и посматраног исх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е је уочити ретке поја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хтевају рандомизацију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14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го тра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пе с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 број испитан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Губитак" пацијен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Confounding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Selection bias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Recall bias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случај контрола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g.case-control stud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оводе на мањем броју испитаника и краће трају у односу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хортне студије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вим студијама се прати повезаност испољавања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а од значаја </a:t>
            </a: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групи пацијената и изложеност ове групе леку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ОЖЕНОС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own Arrow 4"/>
          <p:cNvSpPr/>
          <p:nvPr/>
        </p:nvSpPr>
        <p:spPr>
          <a:xfrm>
            <a:off x="6516720" y="2276640"/>
            <a:ext cx="576360" cy="295272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шкe студ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типа случај-контрола (eng. case-control stud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хваћене су две групе пацијената, „случајеви“ и „ контроле“ које су по свему сличне осим по испитиваној болести или испољеном исходу од интереса (нпр. нежељено дејство лек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резентативност контролне групе у односу на општу популациј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резентативност „случајева“ у односу на стварну популацију пацијената који имају дату боле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шкe студ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34100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домизирана клиничка студија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g. randomized controlled trial)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интервентна студија у којој две групе пацијената које су по свему сличне сем по изложености леку се након експозиције посматрају у смислу испољавања било терапијског ефекта било нежељеног дејств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атни стандард“у фармакоепидемилогиј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се користи за поређење лека у односу на други лек или плацебо у смислу ефикасности и/или безбед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варен усло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домизације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варен услов „маскираности“!!! (двострука/једнострук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шкe студ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употребе лекова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g. drug utilization research) имају за циљ да опишу схеме употребе лекова и да идентификују проблеме везане за употребу и потрошњу ле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идемиолог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идемиологија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 која проучава дистрибуције и одлике здравствених стања и догађаја унутар опште популације, као и примену ових сазнања у циљу контроле здравственог стања попул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800244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т дефинисане дневне дозе (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Daily Doses, DDD, ДДД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Д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сечна дневна доза лека у терапији одржавања за основну индикацију код одраслих особа која се додељује само за лекове који имају АТЦ ко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т дефинисане дневне дозе (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Daily Doses, DDD, ДДД</a:t>
            </a:r>
            <a:r>
              <a:rPr b="0" lang="sr-C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ДД за неки лек је договорена доза лека коју је усвојила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 експерата Светске Здравствене Организације која одражава најчешће прописивану дневну количину тог лек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ДД треба схватити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о јединицу мер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ја не подразумева у сваком случају исту вредност и за прописану дневну дозу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т дефинисане дневне дозе 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Daily Doses, DDD, ДДД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ДД треба да осликава уопштену вредност дозе независну од генетичких и других варијација пацијена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ДД се не додељује за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не препара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ум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кци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неопластичне леко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тракте алерг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калне анестетик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асте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т дефинисане дневне дозе (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Daily Doses, DDD, ДДД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јединице мере ДДД се користе следеће ознаке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-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 –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лигр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-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ков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 -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љаде пако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 -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лиони паковањ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т дефинисане дневне дозе 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Daily Doses, DDD, ДДД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халац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ублингвал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риме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D – трансдермал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рим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азална приме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ектална прим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рална приме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арентерална прим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т дефинисане дневне дозе 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Daily Doses, DDD, ДДД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а ДДД се додељује једном АТЦ коду, односно начину приме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ДД се додељује тек пошто је лек одобрен и пласиран макар у једној земљ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упстанце намењене за третман ретких болести које се дозирају индивидуално, стручна тела и радне групе могу одобрити употребу и без ДДД-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ечна доза намењена одраслима за главну индикацију одређена је АТЦ кодом, и подразумева примену код одраслих особа на тт од 7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g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к и фармацеутске форме намењене углавном деци имају ДДД прерачунате за одрасле (сем хормона раста, таблета флуор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а одржавања се утврђује пошто се леку додели ДД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оједине групе лекова важе одређени принципи за додељивање ДД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ДД се додељује на ос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у утврђеног састава лековите супстанце, помоћне лековите супстанце не мењају ДД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и стереоизомери  захтевају посебан АТЦ код, али и посебну ДД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екови имају исти АТЦ код па и исту ДДД као и леко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ДД је обично идентична за различите облике једног истог л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де се посебне ДДД, уколико је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личити  пут примене лека подразумева и различиту биоискористљивост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ли ако се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личити облици једног лека користе за различите индикациј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парентерална фракција представља незнатни део укупне примене лека нема потребе за посебном ДД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ентерални производи намењени за  интрамускуларну и интравенску примену имају идентичну ДД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ДД  представља скоро увек "компромис", јер је резултат прегледа и анлизе доступне литературе која укључује и податке о дозама које се користе за одређену индикацију у различтим регионима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г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гија</a:t>
            </a:r>
            <a:r>
              <a:rPr b="0" i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њује принципе епидемиологије примарно на проучавање клиничке употребе лекова у општој популациј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рне дефиниције фармакоепидемиологије истичу њен значај као науке која "</a:t>
            </a:r>
            <a:r>
              <a:rPr b="0" i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учава употребу и ефекте/нежељене ефекте лекова у великом броју пацијената а са циљем рационалније, ефикасније али и исплативије употребе лекова и унапређењу исхода лечења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на примена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нтернет ресурса који се односе на АТЦ/ДДД концеп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И1 Увод у фармацеутску прак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т дефинисане дневне дозе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Daily Doses, DDD, ДДД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ост ДДД свако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ка се може наћи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 сајту Светске Здравствене Организациј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whocc.no/atc_ddd_index/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трагом Листе лекова које финансира РФЗО http://www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zzo.sr.gov.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фармакотерапијском приручни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т дефинисане дневне дозе (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daily doses, DDD, ДДД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ДД се повремено ревидирају и мењају, сходно истим принципима који важе и за усвајање ДД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е промене су минорне, и за њих је задужена Међународна радна група за статистику и методологију леков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ћење потрошње лек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ањ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ог система у оквиру којег се употребље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 евидентирају и прате у погледу потрошње – употреб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TC/DDD методолог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жава се кa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DDD на 100 болесничких дана (у болничким условима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као број DDD на 1000 становника (у друштвено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једниц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 вредност DDD сваком леку се додељу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АTC код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 ове параметре, може се доделити и монетар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дност свакој DD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надним математичким операцијам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е је утврдити алокацију буџета, као и идентификацију лекова који захтевају највише улагања у економском смисл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BC анализ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 Better Control analy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D анализ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n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Vital, Essential, Desirable analysis“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Г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гија – наука која проучава лекове кроз медицинско –  здравствени, економски и друштвени аспект деловања у условима њихове терапијске приме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њава сазнања о лековима која су проистекла из клиничких испитивања лек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на и за процену односа користи и ризика примене ле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г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гија јесте орјентисана примарно ка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ЕКОВИМА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хватајући безбедност и ефикасност појединачних лекова или група лекова или ка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ТРОШЊИ ЛЕКОВ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циљу унапређивања квалитета примене лекова употребом педагошких (едукативних) интервенција међу здравственим професионалцима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Г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и фармакоепидемиолог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ефикасности лек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нежељених дејстава лек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утицаја деловања истовремене примене неколико група лек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прописивања и коришћења лек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алуација односа користи и ризика примењеног ле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шкe студ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криптивне (некомпаративне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описују схеме употребе лекова у ретроспективном или проспективном маниру“ 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ке (компаративне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нтификују факторе ризика који могу утицати на употребу и потрош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лек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шкe студ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сервационе студи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раживач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атрају утицај интервенције или фактора ризика на изложену популациј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вент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ал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раживач додељује интервенцију (профилактичку, терапијску, едукативну) групи испитаника са циљем евалуације утицаја интервенције на исход од интереса у односу на групу која није била изложена интервенц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епидемиолошкe студије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сервационог дизај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приказа појединачног случаја (eng. case report study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серије случаја (eng. case ser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ије пресека (eng. cross-sectional study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13T10:26:53Z</dcterms:created>
  <dc:creator>Author</dc:creator>
  <dc:description/>
  <dc:language>en-US</dc:language>
  <cp:lastModifiedBy>Marina Kostic</cp:lastModifiedBy>
  <dcterms:modified xsi:type="dcterms:W3CDTF">2023-09-11T10:10:09Z</dcterms:modified>
  <cp:revision>32</cp:revision>
  <dc:subject/>
  <dc:title>УВОД У ФАРМАКОЕПИДЕМИОЛОГИЈУ</dc:title>
</cp:coreProperties>
</file>